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630E-4354-4C76-A8D9-F6805E1DA8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luence of Human Activity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luence of Human Activity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Fertili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rs enable farmers to grow more food as they are replacing the nutrients removed from the soil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too much fertiliser is added and it then rains, the fertiliser finds its way into rivers and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the water plants to grow  and as there is competition for light, some will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Fertili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rs enable farmers to grow more food as they are replacing the nutrients removed from the soil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too much fertiliser is added and it then rains, the fertiliser finds its way into rivers and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the water plants to grow  and as there is competition for light, some will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ecay the dead plants and in so doing use up oxygen from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e fish suffocate and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cess is called Eutroph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sewage pumped into rivers has the sam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ecay the dead plants and in so doing use up oxygen from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e fish suffocate and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cess is called Eutroph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sewage pumped into rivers has the sam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 kill insects that will damage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kill harmless insects or  can get washed into rivers and pollute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even end up in the food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 kill insects that will damage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kill harmless insects or  can get washed into rivers and pollute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even end up in the food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60s, DDT in the food chain threatened  bird popul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irds of prey came close to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60s, DDT in the food chain threatened  bird popul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irds of prey came close to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Farm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duces less food and is more expensive but it does not produce the pollution problems of 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Farm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duces less food and is more expensive but it does not produce the pollution problems of 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armyard manure as a fertiliser and set aside land for growth of wild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armyard manure as a fertiliser and set aside land for growth of wild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Control of P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using natural predators to eat pests instead of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 not have harmfu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Control of P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using natural predators to eat pests instead of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 not have harmfu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agriculture health and medicine have produced a dramatic rise in the huma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crease in population size leads to an increase in pollution and higher demand for the world’s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agriculture health and medicine have produced a dramatic rise in the huma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crease in population size leads to an increase in pollution and higher demand for the world’s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lternative energ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e our rapidly diminishing fossil fuel reserves by using solar power or wi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lternative energ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e our rapidly diminishing fossil fuel reserves by using solar power or wi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conserving endangered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tou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es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diversity in gene p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conserving endangered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tou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es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diversity in gene p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using up the earth’s resources, including fossil fuel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using up the earth’s resources, including fossil fuel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fossil fuels in cars and power stations produces carbon dioxide, sulphur dioxide  and other greenhous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traps heat in the atmosphere and causes the temperature of the earth to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ads to disruption of the weather patterns eg drought, fl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eds may thrive on the extra carbon dioxide while other plants are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fossil fuels in cars and power stations produces carbon dioxide, sulphur dioxide  and other greenhous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traps heat in the atmosphere and causes the temperature of the earth to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ads to disruption of the weather patterns eg drought, fl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eds may thrive on the extra carbon dioxide while other plants are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will dissolve in rain producing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damages trees and pollutes rivers and l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will dissolve in rain producing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damages trees and pollutes rivers and l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causes erosion of buildi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tatues particularly if they are made of limesto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causes erosion of buildi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tatues particularly if they are made of limesto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or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y countries people are chopping down forests to provide timber or space for agriculture for the growing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or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y countries people are chopping down forests to provide timber or space for agriculture for the growing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several proble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the timber increases the level of carbon dioxide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rees means less carbon dioxide absorbed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is eroded as it is exposed to the wind an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water is transpired into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animal and plant habitats are destroyed causing extinction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several proble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the timber increases the level of carbon dioxide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rees means less carbon dioxide absorbed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is eroded as it is exposed to the wind an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water is transpired into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animal and plant habitats are destroyed causing extinction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has become more intensive to provide a higher % yield from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regard intensive farming of animals to be cr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produce more food from the land farmers have to use more fertilisers and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has become more intensive to provide a higher % yield from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regard intensive farming of animals to be cr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produce more food from the land farmers have to use more fertilisers and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BF1-1B38-4160-B3AB-620AB2DC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63E4-B55C-4F1A-BB7D-D248F9B9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B8B-7ECC-4F90-A5C1-6E32BEEC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8B1D-2B30-43A4-B9BC-671B32D8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918-9AFA-49FB-8C39-C350DF21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F47-0FB6-4C7B-9434-22C88ED6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E6B-00D5-4946-B97B-DC800892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66C-1234-4853-A62B-155915A5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89DB-5457-454F-974A-6D8941E0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E96-E9FA-48B1-A837-F5D7E40E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F1E-0CDD-4F99-8C00-890F1362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154-57CE-4879-8F81-6D3D22B1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99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02C0-4156-41B8-BBEE-E4385C74D3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 Influence of Human Activity on the Environmen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0" name="Picture 4" descr="j0285360"/>
          <p:cNvPicPr/>
          <p:nvPr/>
        </p:nvPicPr>
        <p:blipFill>
          <a:blip r:embed="rId1"/>
          <a:stretch/>
        </p:blipFill>
        <p:spPr>
          <a:xfrm>
            <a:off x="2987640" y="3357720"/>
            <a:ext cx="27622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74" name="Picture 5" descr="image033"/>
          <p:cNvPicPr/>
          <p:nvPr/>
        </p:nvPicPr>
        <p:blipFill>
          <a:blip r:embed="rId1"/>
          <a:stretch/>
        </p:blipFill>
        <p:spPr>
          <a:xfrm>
            <a:off x="1332000" y="1139760"/>
            <a:ext cx="64800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roblems with Fertiliser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Fertilisers enable farmers to grow more food as they are replacing the nutrients removed from the soil by plant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However, if too much fertiliser is added and it then rains, the fertiliser finds its way into rivers and lak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is causes the water plants to grow  and as there is competition for light, some will di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66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Bacteria decay the dead plants and in so doing use up oxygen from the water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means the fish suffocate and die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process is called Eutrophic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Raw sewage pumped into rivers has the same effect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79" name="Picture 5" descr="swan_algae"/>
          <p:cNvPicPr/>
          <p:nvPr/>
        </p:nvPicPr>
        <p:blipFill>
          <a:blip r:embed="rId1"/>
          <a:stretch/>
        </p:blipFill>
        <p:spPr>
          <a:xfrm>
            <a:off x="4925880" y="404640"/>
            <a:ext cx="379584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esticid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esticides kill insects that will damage crop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y also kill harmless insects or  can get washed into rivers and pollute the water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y may even end up in the food chai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n the 1960s, DDT in the food chain threatened  bird populations.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any birds of prey came close to extinc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4" name="Picture 7" descr="bird%20of%20prey"/>
          <p:cNvPicPr/>
          <p:nvPr/>
        </p:nvPicPr>
        <p:blipFill>
          <a:blip r:embed="rId1"/>
          <a:stretch/>
        </p:blipFill>
        <p:spPr>
          <a:xfrm>
            <a:off x="1908000" y="1514520"/>
            <a:ext cx="43149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7" name="Picture 5" descr="DDT"/>
          <p:cNvPicPr/>
          <p:nvPr/>
        </p:nvPicPr>
        <p:blipFill>
          <a:blip r:embed="rId1"/>
          <a:stretch/>
        </p:blipFill>
        <p:spPr>
          <a:xfrm>
            <a:off x="155520" y="46080"/>
            <a:ext cx="693756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What can we Do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9" name="Picture 4" descr="MCj04077340000[1]"/>
          <p:cNvPicPr/>
          <p:nvPr/>
        </p:nvPicPr>
        <p:blipFill>
          <a:blip r:embed="rId1"/>
          <a:stretch/>
        </p:blipFill>
        <p:spPr>
          <a:xfrm>
            <a:off x="2268360" y="1990800"/>
            <a:ext cx="41752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Organic Farming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produces less food and is more expensive but it does not produce the pollution problems of intensive farming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2" name="Picture 4" descr="MCj02331180000[1]"/>
          <p:cNvPicPr/>
          <p:nvPr/>
        </p:nvPicPr>
        <p:blipFill>
          <a:blip r:embed="rId1"/>
          <a:stretch/>
        </p:blipFill>
        <p:spPr>
          <a:xfrm>
            <a:off x="4427640" y="1481040"/>
            <a:ext cx="471636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se farmyard manure as a fertiliser and set aside land for growth of wild plants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5" name="Picture 5" descr="cow-manure"/>
          <p:cNvPicPr/>
          <p:nvPr/>
        </p:nvPicPr>
        <p:blipFill>
          <a:blip r:embed="rId1"/>
          <a:stretch/>
        </p:blipFill>
        <p:spPr>
          <a:xfrm>
            <a:off x="2484360" y="2084400"/>
            <a:ext cx="4896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iological Control of Pest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means using natural predators to eat pests instead of pesticid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t does not have harmful effect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8" name="Picture 5" descr="g1251"/>
          <p:cNvPicPr/>
          <p:nvPr/>
        </p:nvPicPr>
        <p:blipFill>
          <a:blip r:embed="rId1"/>
          <a:stretch/>
        </p:blipFill>
        <p:spPr>
          <a:xfrm>
            <a:off x="4427640" y="1654200"/>
            <a:ext cx="40320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mprovements in agriculture health and medicine have produced a dramatic rise in the human popul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increase in population size leads to an increase in pollution and higher demand for the world’s resourc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3" name="Picture 5" descr="worldpop"/>
          <p:cNvPicPr/>
          <p:nvPr/>
        </p:nvPicPr>
        <p:blipFill>
          <a:blip r:embed="rId1"/>
          <a:stretch/>
        </p:blipFill>
        <p:spPr>
          <a:xfrm>
            <a:off x="1619280" y="2597040"/>
            <a:ext cx="562464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Develop alternative energy sourc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nserve our rapidly diminishing fossil fuel reserves by using solar power or wind power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01" name="Picture 5" descr="photo_13890"/>
          <p:cNvPicPr/>
          <p:nvPr/>
        </p:nvPicPr>
        <p:blipFill>
          <a:blip r:embed="rId1"/>
          <a:stretch/>
        </p:blipFill>
        <p:spPr>
          <a:xfrm>
            <a:off x="5072040" y="1628640"/>
            <a:ext cx="31939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enefits of conserving endangered speci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Ecotourism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gricultural benefit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Species indicator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aintaining diversity in gene pool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04" name="Picture 5" descr="elephantnewbie"/>
          <p:cNvPicPr/>
          <p:nvPr/>
        </p:nvPicPr>
        <p:blipFill>
          <a:blip r:embed="rId1"/>
          <a:stretch/>
        </p:blipFill>
        <p:spPr>
          <a:xfrm>
            <a:off x="4648320" y="1484280"/>
            <a:ext cx="403848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Humans are using up the earth’s resources, including fossil fuels.</a:t>
            </a:r>
            <a:br>
              <a:rPr sz="2400"/>
            </a:b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6" name="Picture 5" descr="2630"/>
          <p:cNvPicPr/>
          <p:nvPr/>
        </p:nvPicPr>
        <p:blipFill>
          <a:blip r:embed="rId1"/>
          <a:stretch/>
        </p:blipFill>
        <p:spPr>
          <a:xfrm>
            <a:off x="1476360" y="2092320"/>
            <a:ext cx="633564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Burning fossil fuels in cars and power stations produces carbon dioxide, sulphur dioxide  and other greenhouse gas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carbon dioxide traps heat in the atmosphere and causes the temperature of the earth to rise.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This leads to disruption of the weather patterns eg drought, floods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Some weeds may thrive on the extra carbon dioxide while other plants are killed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9" name="Picture 5" descr="Greenhouseeffect"/>
          <p:cNvPicPr/>
          <p:nvPr/>
        </p:nvPicPr>
        <p:blipFill>
          <a:blip r:embed="rId1"/>
          <a:stretch/>
        </p:blipFill>
        <p:spPr>
          <a:xfrm>
            <a:off x="4834080" y="1484280"/>
            <a:ext cx="38559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Sulphur dioxide will dissolve in rain producing Acid Rai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cid rain damages trees and pollutes rivers and lakes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2" name="Picture 7" descr="acidraindamage"/>
          <p:cNvPicPr/>
          <p:nvPr/>
        </p:nvPicPr>
        <p:blipFill>
          <a:blip r:embed="rId1"/>
          <a:stretch/>
        </p:blipFill>
        <p:spPr>
          <a:xfrm>
            <a:off x="2340000" y="2708280"/>
            <a:ext cx="52563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cid rain causes erosion of buildings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nd statues particularly if they are made of limestone</a:t>
            </a:r>
            <a:br>
              <a:rPr sz="2400"/>
            </a:b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4" name="Picture 4" descr="acidrainstatueed"/>
          <p:cNvPicPr/>
          <p:nvPr/>
        </p:nvPicPr>
        <p:blipFill>
          <a:blip r:embed="rId1"/>
          <a:stretch/>
        </p:blipFill>
        <p:spPr>
          <a:xfrm>
            <a:off x="2778120" y="1600200"/>
            <a:ext cx="358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Deforestatio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n may countries people are chopping down forests to provide timber or space for agriculture for the growing popul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7" name="Picture 5" descr="deforestation_aerial_0066"/>
          <p:cNvPicPr/>
          <p:nvPr/>
        </p:nvPicPr>
        <p:blipFill>
          <a:blip r:embed="rId1"/>
          <a:stretch/>
        </p:blipFill>
        <p:spPr>
          <a:xfrm>
            <a:off x="4427640" y="1628640"/>
            <a:ext cx="42591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is causes several problems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urning the timber increases the level of carbon dioxide in the air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Less trees means less carbon dioxide absorbed for photosynthesi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Soil is eroded as it is exposed to the wind and rai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Less water is transpired into the atmospher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Many animal and plant habitats are destroyed causing extinction of speci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Intensive Farming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Farming has become more intensive to provide a higher % yield from land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Many people regard intensive farming of animals to be cru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In order to produce more food from the land farmers have to use more fertilisers and pesticid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2:35:44Z</dcterms:created>
  <dc:creator>Mary</dc:creator>
  <dc:description>The Influence of Human Activity on the Environment</dc:description>
  <cp:keywords>The Influence of Human Activity on the Environment</cp:keywords>
  <dc:language>en-US</dc:language>
  <cp:lastModifiedBy>RomaK</cp:lastModifiedBy>
  <dcterms:modified xsi:type="dcterms:W3CDTF">2015-09-04T09:45:36Z</dcterms:modified>
  <cp:revision>8</cp:revision>
  <dc:subject>The Influence of Human Activity on the Environment</dc:subject>
  <dc:title>The Influence of Human Activity on the Environment</dc:title>
</cp:coreProperties>
</file>